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076-87AC-4127-A15E-9C92C39B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7C9-B280-4C23-8046-A10FDE3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FB5-E260-4B25-BA40-53BA719D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1FF-E1B1-467E-8ABB-AEFC74B0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C1D-3E86-4128-A208-125F882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5A2B-2BA4-4B10-A3DF-A80B382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207-4778-4D34-891E-EA54A87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DCB-68E8-434A-8FEB-1084B2F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13D-9ED3-4642-8780-D510D16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1AC-53DE-41D3-82FD-9650C2D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F76-9968-4A6E-821E-0F01357F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70A-85BB-4758-B5AD-C4AED77B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991B-F994-43BC-BBBA-80EE3CE60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Long, O Lord?”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John’s Epistl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3 ,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hn 1:1-1 John 2: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0-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uly know God we must devote our lives to follow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laim to know him but you do not follow his Word, the truth is not in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bide by the word is to be like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serve God and hate your br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o Know Him Is To Do His Commandment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ate your brother is to put a space between you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hates his brother is in dar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is World Is Not Our Hom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love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not love the world and God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that are of the world; the lust of the flesh, the lust of the eyes, and the pride of life are not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and the things in it will perish , but if you stay with God you will abide fo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.D. 70-100, no inspired history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only know for sure what happened to one of the apostles, James the brother of Joh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hought that Jude (the Bishop of Edessa and commonly called Thaddeus , was stabbed by a 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lso believed that Andrew was bound to a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, that Philip was st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ecution faced the Christian of this 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onger from Jews but from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with the reign of N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were burned, tortured, beaten, crucified, and impriso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intensify during the reign of some rulers and then slack off in the time of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quakes, famines, plagues, and any other disruptions were blamed on the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y would not worship ancient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combs were underground burial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mainly by Christians to bury the dead, but also to hide and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likely worshipped underground during times of severe persec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tal length of the catacombs is 59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during this time period there were many false doctrines aside from the Judaizing teachers that had always been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prominent being 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nosticis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ed a knowledge far above that of the Bible and what a common man could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, one could lead a sinless life and that, even if one did sin, it would not spoil his inner so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aught that Jesus was a normal man when he was born and when he died, but during his life he was de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lowship With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Know Him Is To Do His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rld Is Not Our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Wo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was from the begi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given to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we are bringing the word to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y we can all share the gift of fellowsh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ellowship With Go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the ligh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ry to live without God in our lives is to deceive our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if we walk with him, we have fellowship with all Christ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si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if we confess our sins, he will forgive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 is the propitiation for our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20:49:06Z</dcterms:created>
  <dc:creator>Tab L. Vines</dc:creator>
  <dc:description/>
  <dc:language>en-US</dc:language>
  <cp:lastModifiedBy>Frank D Vines</cp:lastModifiedBy>
  <dcterms:modified xsi:type="dcterms:W3CDTF">2007-09-08T15:57:05Z</dcterms:modified>
  <cp:revision>11</cp:revision>
  <dc:subject/>
  <dc:title>“How Long, O Lord?”  John’s Epistles</dc:title>
</cp:coreProperties>
</file>